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D96C-EDD7-4F6A-8AC6-8347D936E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840D-D33E-4DF7-8EE3-6FE20E4F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5FF3-244E-4814-94C1-80DAD3070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6663-D21D-4102-8B5C-5B7A80E2E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C7E1-2EF4-4CA4-A857-4670A8554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38727-5571-4215-B5AA-71151D18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DB08-B907-49D4-999A-4DA77499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F298-900B-4E02-9CB0-7A160DCA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BA0E9-3E4C-4C37-BFA2-8C9BDA0D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255A-46C8-4ADD-A0AC-A88A23E6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7FC2-C266-48CF-AA48-43B79B06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F9A0-2128-471C-8D1C-F6FCF3A2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8A15-6393-4607-A944-0B061FA4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6F3B-FAEC-46FD-9494-44D653E4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A735-92CD-45A1-9229-A7EA4A81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9CCA-4415-489A-AEB9-58A3F1D1D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B6F7-483F-4F17-AC3A-C473191A6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1BA5-7492-4FA5-AD10-B0C66185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AED9-37C1-4C67-97F1-0A862277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84CE-37A4-4B7B-B9DA-8C07BDDC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46F4-0E43-42DE-9CF6-F24BE0D1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3406-48FB-4488-81D9-9D96DA26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8FEB-87D4-4085-8861-AF73C3DF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D1FD-6E98-422D-B568-7E727E70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339480" indent="-33948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339480" indent="-3394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339480" indent="-3394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339480" indent="-3394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339480" indent="-3394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339480" indent="-3394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95D1-FF2D-4B8A-AF4D-766AFD763B4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93E8-739C-4C58-8FE9-8DD88FF5227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Unit #5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36480" y="3885840"/>
            <a:ext cx="426708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olyatomic Ions / Mole / Molarity / Electrochemistr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0880" y="185580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e will represent ions the same way with two exceptions (con’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048120"/>
            <a:ext cx="8991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2)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If the atom has less than 4 valence electrons; we will remove as many electrons as needed to move back to the nearest noble gas core. A total of 8 valence electrons. (This will give the ion an Octet of valence electrons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nd exception con’t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fter the "atomic symbol" of the ion, in the upper right corner of the symbol, we will write a positive sign (or digit, if more than one) for each additional electron we subtracted to achieve the nearest noble gas core. An octet of valence electron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nd exception con’t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ample #1:  Sod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nd exception con’t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ample #2:  Alumin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nd exception con’t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ample #3:  Bar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halkboard"/>
              </a:rPr>
              <a:t>Polyatomic ion-</a:t>
            </a:r>
            <a:r>
              <a:rPr b="0" lang="en-US" sz="40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 type of ion made of more than 2 atoms. These will also be classified as either an anion or a catio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4 steps to drawing  polyatomic ions: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297180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lvl="2" marL="1017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tep 1)    Determine and write down the "4 key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   numbers".</a:t>
            </a: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"/>
          <p:cNvSpPr/>
          <p:nvPr/>
        </p:nvSpPr>
        <p:spPr>
          <a:xfrm>
            <a:off x="1587600" y="3886200"/>
            <a:ext cx="166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ese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93520" y="3951360"/>
            <a:ext cx="36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"4 key numbers”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(con’t.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743200"/>
            <a:ext cx="83059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“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p” 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# of protons (add up the atomic number of all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involved atoms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11480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Times New Roman"/>
              </a:rPr>
              <a:t>e”    </a:t>
            </a:r>
            <a:r>
              <a:rPr b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# of total electrons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(add up the atomic numbers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(which equals the number of total electrons in a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neutral atom) of all atoms in the 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"4 key numbers”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(con’t.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2743200"/>
            <a:ext cx="83059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“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”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halkboard"/>
              </a:rPr>
              <a:t># of core electrons 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(atomic number minus the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number of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"s" and "p" electrons in the highest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energy level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11480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Times New Roman"/>
              </a:rPr>
              <a:t>v”    </a:t>
            </a:r>
            <a:r>
              <a:rPr b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# of valence electrons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(determined by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subtracting the # of core electrons from the #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of total electron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2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2377440" y="1752480"/>
            <a:ext cx="45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raw the "skeleton" of the 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3320" y="27432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2743200"/>
            <a:ext cx="693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Give all atoms eight electrons (except Hydrogen, it only wants two), (remember each bond (represented by a dash) counts as 2 electron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is unit builds upon previous topics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ectron Configur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rbital Not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ectron Dot Not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ctet Rul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144792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4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17524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Count the number of electrons drawn and compare this to the calculated number ("Key number #4”   the   “v” 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327672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Adjust as necessary by adding double or triple bonds to reduce the number of electrons while still ensuring all atoms still have an octet of valence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64400" y="5175360"/>
            <a:ext cx="733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Draw brackets and valence charge to finis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17524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>
            <a:off x="2627280" y="175752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mmon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19800" y="1752480"/>
            <a:ext cx="16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rbon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92880" y="175248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yan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The Mole Concept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Mole -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amount of substance that contains Avagadro's number of particles of that substance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>
            <a:off x="2248920" y="4440240"/>
            <a:ext cx="567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bbreviated: mol.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m, M, 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Avagadro's number -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is is equal to 6.02 *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23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429000"/>
            <a:ext cx="8915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It is specifically the number of 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  <a:ea typeface="ＭＳ Ｐゴシック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 atoms in 12 grams (the chart mass in grams) of this isotop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49568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Think of this word like the word "Dozen", which always means twelve. Well this number always means 6.02 *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  <a:ea typeface="ＭＳ Ｐゴシック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 partic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Atomic weight -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weighted average of the masses of the isotopes of an elemen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316080" y="3581280"/>
            <a:ext cx="86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Based on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  <a:ea typeface="ＭＳ Ｐゴシック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 , 1 atom = 12 AMUs (atomic mass unit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48520" y="449568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AMU -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4495680"/>
            <a:ext cx="5638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rbitrary unit equal to 1/12 the mass of a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om. (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omic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s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i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MU continued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Imagine if we had to determine the "weight" of everyone in the classroom, but, we didn't have a scale. We could select someone and then assign to that individual an arbitrary "weight" unit. We might say he/she weight 10 CRUs (Chem. Room Units). Everyone in the room will now be weighed relative to that studen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510552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The atomic weight of all elements is relative to the "weight" of carbon 1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Gram Atomic Weight -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mass in grams of  1 mole of a substanc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855720" y="3352680"/>
            <a:ext cx="33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ample 1: Hydrog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61320" y="3962520"/>
            <a:ext cx="25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 atom weighs 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15240" y="4495680"/>
            <a:ext cx="53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 mole of hydroge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atom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eighs 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72640" y="5257800"/>
            <a:ext cx="62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ever what is special about Hydrogen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55480" y="396252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.0079 a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00320" y="4495680"/>
            <a:ext cx="148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.0079 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47720" y="5257800"/>
            <a:ext cx="18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ts diatom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is the formula for a molecule of Hydrogen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1154160" y="3048120"/>
            <a:ext cx="500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 molecule of Hydrogen weighs 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50560" y="4572000"/>
            <a:ext cx="49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 mole of Hydrogen gas weighs 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07360" y="232092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07760" y="354636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.0158 a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99920" y="5105520"/>
            <a:ext cx="148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.0158 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xample #2:  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998280" y="2736720"/>
            <a:ext cx="57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 molecule of Carbon dioxide weighs 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09080" y="4191120"/>
            <a:ext cx="51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 mole of Carbon dioxide weighs 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195360" y="335268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4.0098 a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25600" y="480060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4.0098 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member: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9907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Ion-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26668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an atom or group of atoms that has either lost or gained electron(s) and as a result has an electric char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26760" y="4184640"/>
            <a:ext cx="134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Cation-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45880" y="4184640"/>
            <a:ext cx="39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s a positively charged 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4794120"/>
            <a:ext cx="12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Anion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28600" y="4794120"/>
            <a:ext cx="40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s a negatively charged 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ke sure you are aware of what you are working with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2877120" y="3581280"/>
            <a:ext cx="30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toms or Molec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7480" y="4572000"/>
            <a:ext cx="24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MUs or 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Molarity -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25146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1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s a concentration unit in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lnSpc>
                <a:spcPct val="11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#moles / liter.   (The liter is usually water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918720" y="5257800"/>
            <a:ext cx="73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Abbreviated: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  <a:ea typeface="ＭＳ Ｐゴシック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NOT mol, M, m, or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  <a:ea typeface="ＭＳ Ｐゴシック"/>
              </a:rPr>
              <a:t>m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76520" y="3581280"/>
            <a:ext cx="61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te that the numerator is # of moles. We will learn how to convert this to grams in the next topi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DIMO -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3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 acronym that means: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lnSpc>
                <a:spcPct val="13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vid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ltipl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4038480"/>
            <a:ext cx="686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t is a drawing that you have to be able to reproduce and u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 rot="10800000">
            <a:off x="609480" y="1218600"/>
            <a:ext cx="76320" cy="15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2743200" y="1752480"/>
            <a:ext cx="3657600" cy="358164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775680" y="3276720"/>
            <a:ext cx="1692360" cy="459720"/>
          </a:xfrm>
          <a:prstGeom prst="rect">
            <a:avLst/>
          </a:prstGeom>
          <a:noFill/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# of mo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57960" y="1600200"/>
            <a:ext cx="1741320" cy="459720"/>
          </a:xfrm>
          <a:prstGeom prst="rect">
            <a:avLst/>
          </a:prstGeom>
          <a:noFill/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# of 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70000" y="1600200"/>
            <a:ext cx="2043000" cy="459720"/>
          </a:xfrm>
          <a:prstGeom prst="rect">
            <a:avLst/>
          </a:prstGeom>
          <a:noFill/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# of parti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35320" y="5486400"/>
            <a:ext cx="2741040" cy="459720"/>
          </a:xfrm>
          <a:prstGeom prst="rect">
            <a:avLst/>
          </a:prstGeom>
          <a:noFill/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# of liters of a 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2057400"/>
            <a:ext cx="1828800" cy="121932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554360" y="2084760"/>
            <a:ext cx="1864080" cy="116424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3809880"/>
            <a:ext cx="0" cy="167652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2026800">
            <a:off x="2881440" y="2286000"/>
            <a:ext cx="17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Chart m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9652400">
            <a:off x="4435560" y="2209320"/>
            <a:ext cx="20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Avagadro’s #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157640" y="43434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22.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676520"/>
            <a:ext cx="91440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 Steps to use the DIMO chart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2590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 )       Determine the chart mass of th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bstance you're working with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2" name=""/>
          <p:cNvSpPr/>
          <p:nvPr/>
        </p:nvSpPr>
        <p:spPr>
          <a:xfrm>
            <a:off x="81000" y="3657600"/>
            <a:ext cx="85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2)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Deal with the concentration of that subst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44197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3)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Deal with the volume of the solution you'r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working wi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1080" y="5410080"/>
            <a:ext cx="48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4)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Use "DIMO" to sol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370160" y="1600200"/>
            <a:ext cx="777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How many grams of NaOH are in 1 liter of a 1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  <a:ea typeface="ＭＳ Ｐゴシック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 solution of the NaO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0280" y="160020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ample 1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23120" y="29718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1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3160" y="2971800"/>
            <a:ext cx="39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termine the chart mas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69360" y="160020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ample 1 (con’t.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23120" y="22096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1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357280" y="2209680"/>
            <a:ext cx="14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0 g/m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46880" y="30481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2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433960" y="3048120"/>
            <a:ext cx="41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al with the 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69360" y="160020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ample 1 (con’t.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23120" y="22096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1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357280" y="2209680"/>
            <a:ext cx="14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0 g/m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46880" y="266688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2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343600" y="2666880"/>
            <a:ext cx="12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 mol/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46880" y="35053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3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323080" y="3505320"/>
            <a:ext cx="32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al with the volum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69360" y="160020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ample 1 (con’t.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23120" y="22096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1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57280" y="2209680"/>
            <a:ext cx="14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0 g/m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046880" y="266688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2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343600" y="2666880"/>
            <a:ext cx="12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 mol/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046880" y="312408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3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04360" y="31240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 mol of NaOH in samp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46880" y="388620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4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404440" y="388620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 "DIMO" to sol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09480" y="2286000"/>
            <a:ext cx="777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How many grams of NaOH are in 1 liter of a 1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  <a:ea typeface="ＭＳ Ｐゴシック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 solution of the NaO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57480" y="1600200"/>
            <a:ext cx="33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lution to Example 1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3733920"/>
            <a:ext cx="707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re are 40 g of NaOH in 1 liter of a 1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M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lution of NaO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09480" y="190476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Recall how we represented atoms with the electron dot notation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429000" y="3581280"/>
            <a:ext cx="220968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370160" y="1600200"/>
            <a:ext cx="77738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0.75 liters of a 0.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  <a:ea typeface="ＭＳ Ｐゴシック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 solution contains how many grams of Ca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74760" y="160020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ample 2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23120" y="29718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1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13160" y="2971800"/>
            <a:ext cx="39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termine the chart mas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93480" y="160020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ample 2 (con’t.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23120" y="22096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1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90320" y="220968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11 g/m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46880" y="30481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2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33960" y="3048120"/>
            <a:ext cx="41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al with the 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93480" y="160020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ample 2 (con’t.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023120" y="22096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1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90320" y="220968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11 g/m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046880" y="266688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2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70240" y="26668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0.5 mol/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46880" y="35053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3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23080" y="3505320"/>
            <a:ext cx="32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al with the volum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93480" y="160020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ample 2 (con’t.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023120" y="22096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1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90320" y="220968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11 g/m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46880" y="266688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2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370240" y="26668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0.5 mol/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46880" y="312408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3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37480" y="3124080"/>
            <a:ext cx="431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0.375 mol of Ca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samp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046880" y="388620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4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04440" y="388620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 "DIMO" to sol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09480" y="2286000"/>
            <a:ext cx="7774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How many grams of Ca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 are in 0.75 liter of a 0.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  <a:ea typeface="ＭＳ Ｐゴシック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 solution of the Ca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1600" y="1600200"/>
            <a:ext cx="33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lution to Example 2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523880" y="3733920"/>
            <a:ext cx="70754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re are 41.625 g of Ca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0.75 liter of a 0.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solution of Ca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0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tice in the previous examples we calculated the number of  grams of a substanc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 the next example, we will determine how many moles of a substance are in a given volume of a solution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370160" y="1600200"/>
            <a:ext cx="77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What is the Molarity of a solution created by dissolving 150 grams of  NaI  into 250 mL of distilled wat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74760" y="160020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ample 3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023120" y="29718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1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513160" y="2971800"/>
            <a:ext cx="39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termine the chart mas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93480" y="160020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ample 3 (con’t.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23120" y="22096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1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338560" y="220968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0 g/m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046880" y="30481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2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433960" y="3048120"/>
            <a:ext cx="41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al with the 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0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93480" y="160020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ample 3 (con’t.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023120" y="22096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1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38560" y="220968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0 g/m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046880" y="266688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2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409840" y="266688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0 g / 0.25 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46880" y="35053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3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23080" y="3505320"/>
            <a:ext cx="32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al with the volum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0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93480" y="160020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ample 3 (con’t.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023120" y="22096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1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38560" y="220968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0 g/m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046880" y="266688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2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09840" y="266688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0 g / 0.25 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046880" y="312408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3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00120" y="312408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600 g / 1 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046880" y="388620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 4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404440" y="388620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 "DIMO" to sol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0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0880" y="185580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e will represent ions the same way with two excep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048120"/>
            <a:ext cx="8991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1)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If the atom has at least 5, but less than 8 valence electrons; we will draw as many additional electrons as needed to acquire a total of 8 valence electrons. (This will give the ion an Octet of valence electrons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609480" y="2286000"/>
            <a:ext cx="777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What is the Molarity of a solution created by dissolving 150 grams of  NaI  into 250 mL of distilled wat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81600" y="1600200"/>
            <a:ext cx="33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lution to Example 3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600200" y="4267080"/>
            <a:ext cx="707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re are 4 moles of NaI in 1 liter of th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lution of Na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665360" y="5257800"/>
            <a:ext cx="38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refore the molarity 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523120" y="52578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91080" y="5257800"/>
            <a:ext cx="6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659960" y="3581280"/>
            <a:ext cx="34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600 g of NaI is 4 mo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0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-360" y="1905120"/>
            <a:ext cx="8915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nding the number of particles (atoms or molecules) is done the same way: except you would divide or multiply in or out by "Avagadro's number"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ou will get practice doing this on your study guid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st exception con’t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fter the "atomic symbol" of the ion, in the upper right corner of the symbol, we will write a negative sign (or digit, if more than one) for each additional electron we added to achieve the nearest noble gas core. An octet of valence electrons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st exception con’t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352680" y="3276720"/>
            <a:ext cx="2590920" cy="2209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336320" y="2508120"/>
            <a:ext cx="19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ample #1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st exception con’t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1360800" y="2508120"/>
            <a:ext cx="19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ample #2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87600" y="251460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rom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st exception con’t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1360800" y="2508120"/>
            <a:ext cx="19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ample #3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14240" y="251460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xy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21:59:44Z</dcterms:created>
  <dc:creator>PA Department of Education</dc:creator>
  <dc:description/>
  <dc:language>en-US</dc:language>
  <cp:lastModifiedBy>PA Department of Education</cp:lastModifiedBy>
  <dcterms:modified xsi:type="dcterms:W3CDTF">2008-03-04T13:59:17Z</dcterms:modified>
  <cp:revision>72</cp:revision>
  <dc:subject/>
  <dc:title>Unit #5 </dc:title>
</cp:coreProperties>
</file>